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A5B1-7CD6-4B81-892B-35D82386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9AD0-D949-4A90-A374-E667969F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572C-AA61-4C2D-BC9B-2A4C1325B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2FD8-957D-41DB-8B86-C2F878A5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C15A-0E86-48C5-8F3E-92FEFCD7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7354-49AE-424A-A467-14C70E82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02BA-971D-4BFD-BB8E-85CC62DA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4B8B-FBC7-4AB3-9D11-6B62CA4E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A9B6-8FC0-4ABC-9B18-24E17560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D491-DD4B-4FFD-AF8D-BE0EC4C6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B4AA-081D-40E3-84A1-E00CE9DC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5F54-5C09-43C6-AB20-8935DEB8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F2CB-DAEE-485B-9715-8DC12F9A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E97F-C4B7-4E31-AE45-7D60A568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3E32-77BD-4DCD-ADBB-C7644B35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C004-907C-4155-B677-F63BA83A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36C3-5A99-4E2C-85B6-A2B6583A3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FF9B-7368-4B0F-B0C0-0F445C34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2E2E-0414-4950-A06D-FCB194E8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CD10-2704-488B-8E37-FDF8D6AC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F9C5-2D57-491F-8FE3-6BA42DC5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28B3-3814-4D87-AAA0-6B54E350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0348-05CF-4F3F-90A8-4265B81F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4573-0EFB-429B-B8A7-F24E8F80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64CA-4E19-4F78-89F5-2EF7AF3113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4224-7D02-4E73-ACBC-0CA15C9EBE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yrene.org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Fox new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752480" y="1905120"/>
            <a:ext cx="5079960" cy="40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By: Cody ,Lucas, and Jose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464832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Volcano Erupt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cano erupts in Hawaii does 2.5 thousand in da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230480" y="1981080"/>
            <a:ext cx="27190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What causes volcano to erupt?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66800" y="1981080"/>
            <a:ext cx="76089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Effects of volcano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dsl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thquak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v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lan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lling a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80844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Safety Tip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y distance from volcano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touch the l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057400" y="1828800"/>
            <a:ext cx="4343400" cy="3124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09680" y="525780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00-679-729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505320" y="0"/>
            <a:ext cx="1726920" cy="162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lav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repell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ff"/>
                                      </p:to>
                                    </p:animClr>
                                    <p:set>
                                      <p:cBhvr>
                                        <p:cTn id="8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8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5480" y="-360"/>
            <a:ext cx="2819520" cy="60948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Resources 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fema.g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news.bbc.co.u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kidskonnec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volcano.und.nodak.edu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http://www.kyrene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binmaxey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ggestsof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4:26:17Z</dcterms:created>
  <dc:creator>D83  User</dc:creator>
  <dc:description/>
  <dc:language>en-US</dc:language>
  <cp:lastModifiedBy>D83  User</cp:lastModifiedBy>
  <dcterms:modified xsi:type="dcterms:W3CDTF">2011-03-23T19:21:02Z</dcterms:modified>
  <cp:revision>14</cp:revision>
  <dc:subject/>
  <dc:title>PowerPoint Presentation</dc:title>
</cp:coreProperties>
</file>